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8BE-5F18-4D29-BF8B-E24B1D74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501-CD37-41D1-8E7D-0A333159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0CB28-894A-404D-B355-2FB4B7D6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35C11-72AF-4522-8D9F-12862A4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0240-0E62-4399-BFC2-4EEE067E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26BF3-9A49-4748-99E5-4861F5B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1C11-17AD-4B0C-93E2-0CF652C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9B31-B702-4A6D-8B93-D7331AF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9CC6D-EF8E-44A4-91AB-BC3C3596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6ED1C-7CB2-42A7-A977-8795E69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A3BBE-9E96-44EE-9C96-82D8680A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91BA-F972-40B5-89D3-3D43592E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ADF-8FC8-42E0-8450-72ADF139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31BA4-4940-47F8-87B4-90ABCAC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15E81-DC77-450A-8826-CA0894AD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96006-634F-40C1-B6F4-0459B6C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0B29-D858-4CE3-B41B-86D3118F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8654-225D-46B7-8382-6ED2A910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A2D6B-CFF9-4440-BDCF-7E84CCF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1B813-9961-4516-AB23-01CF5E7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A5445-0606-4CD6-8E8A-523E79F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21006-31E4-44C4-B5E9-5FB2058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9750-0EA4-43AD-8F0E-DE11B24E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4A2-4A5B-4E7A-BC12-7074C93C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3F7A-8D44-4193-8FC4-D3EA5959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0DF6F-7E6C-4B8D-9F0A-491D3F91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5C90-E5EA-4606-B6AA-83D6442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41BE3-BFF2-46AF-8145-7590028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1AC5-37D7-42D6-8DC4-A46C4AE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5B56-E6E3-4C32-9750-2339D69C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64126-A3B0-4682-ABFE-D7F0701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413DE-BD02-4CD8-B3F8-E7A05D9B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728BA-B8C0-4B42-B26D-0B2C41C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7F52C-E990-4003-BB8F-C008A491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AF9-8EAE-4383-ACAE-BF0EB7B3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E2D74-CED0-4B46-870D-4594E322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D2F1-8DCB-4F7F-A42A-BEB0AFBD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98A33-BACD-486F-AF6B-23312D3F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DCFC-4FB6-48FE-B62D-D741D63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DAD2D-DD79-4F5E-BEFB-5E73767D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3E6F4-3D45-40C8-8B5E-52BFBF6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BDB84-9AAB-4EE8-BE25-DFE994E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8BFF0-C5B6-47F6-B33E-FD72960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4133E-2AE3-438A-B482-4E69D78D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756B8-CD7C-4650-9200-C57610EA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48A-A08F-4DF3-82A0-24E0ABF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D0BF1-9A31-4E7C-8583-6A1E4B3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3702A-D71D-4E19-A738-BAB5BF4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8975B-F91D-4823-ACE9-1C527D6A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E91D8-BD0E-405E-8E65-89529410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31E9A-02BE-4B6B-876B-87706AF2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65BD-1736-4C7E-8773-AB0CDE88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246C-07C5-4012-B13F-159EAC32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CB0A-8A0E-43AD-8EFF-AFE8D2B8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6CAA-5308-4014-AFCA-F21F1F5D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11E0-C4F3-41A0-8E92-CC3761E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E66-3D4F-40D9-8186-76304F0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7AED-8CD0-49BC-8EEB-F9C122DE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81A3-3121-4B57-ACD5-0C6A89D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EBF3-7380-4C56-842E-98A40CA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B9BD-02E8-4FFB-90BA-DD40AFDA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EC02-38C4-4877-8EDA-602E1168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F1C9-594E-450A-9E80-FC4D9B1A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B934-DCB1-4324-A0EB-457DDFAE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A635-288D-4426-96F5-D9FD390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2BE3-710A-4900-A2DE-1B4418E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4219-F873-4B3C-9421-414ACF1F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FDB-76C9-4D6C-ABE8-3185287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527D-53CE-452E-B890-0162D95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BB9E-DC9B-447D-9DE0-75232DA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065D-1041-4AC8-A5C3-F21473FF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5ADE-EC88-4269-8D16-05CF7A4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3EDE-79EC-4A95-84A2-AC03554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8C35-DFE4-4133-BD35-78C9837B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2040-C862-4C02-9E2E-5C1E56FC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722E-0D1C-4814-A27F-A201F55B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4995-07F6-409D-954B-A746366A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33C7-65C4-4596-98D2-B4DD52B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C04-4B0C-4B7D-AFFF-FE028DA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F30A-BB82-4807-97C8-6952E2C3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C2CC-B161-4E26-A69C-6B25047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A47D-3F85-490C-ABC0-067AE057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3ECB-74CC-4315-9BEC-BCA819A7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6141-6BD3-4A3E-9B15-A681A4A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53CB-916B-4805-8019-0E7E65A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46AF-44CB-403E-89E7-77619DA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ACB1-219E-4BD7-B580-408FBC33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D319-A64A-44B2-B864-69D550DA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9E888-3542-41A4-A416-8D07B29E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63E-014A-4375-9DC6-3AD73ADA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89BF-5DD3-43A4-A058-C05A81AD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4CE89-9F9B-454B-8756-84F6F557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AD7B-26A9-4941-935D-ABE7047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09EE-A7BA-4572-90AA-D9F36E6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75AD-0591-429D-949A-0DB4FD5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FED4-AEA9-4410-8B84-F982C9C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C36C-3FC4-4610-9887-544B8CA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3AC5-965F-4336-8C4F-68AF607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B088-421D-4A8E-8342-0DA9CF2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04CCE-CD8A-406F-98CB-FF5F8632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B0F-10E4-436F-B252-3032720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46C7-B48B-48DF-865A-DD7FD383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F0F9-D5A0-4162-942C-1DFFBE24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6C77-A78E-492C-A454-7FED9A89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E9A9-9183-4FDE-B5B0-F545BF1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8D97-EBB2-4065-A0D3-509153AC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58DD5-C985-4A63-A7B4-83184F5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E253-5CE3-4EA5-930D-42B138D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D658-D1DB-43E1-A2E8-7F57234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F31F1-50D2-42CA-915D-B665159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33D7-C590-4C63-B83D-783CE0A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1E0-DBE2-43CE-9805-1575786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FA1C-EF45-45CA-98D2-AE0D417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D5C7-B37F-441F-A13C-7109DF76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26B0-9FBD-4BFE-851A-DBED0EC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0D64-C34F-4960-9DDE-1A4128DB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2E25A-BE83-48B9-88BC-C1033ABF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64453-D865-42FB-89A6-35B5D98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91DB-D87C-4F39-9445-615C208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5CF3-C703-4521-8DAC-76E8699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0EAB-6B7F-4593-A65A-D5F6B41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AAB8-12DA-44AB-AD98-EAA33D2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622-1B9F-4E18-A28C-7294C9D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ECF7-85A2-406A-940C-577C08A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A7A5-E232-4258-AB02-1A0FD91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3FEA-547F-4915-9627-94F4F9CB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606D-DF97-46E8-AD19-49C3FC3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6EC9-4C13-44F4-8DE6-9E0C8C8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6DB9D-0C9D-4C99-9B20-FAF9EFEC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188D-F1C0-40DA-A4E6-22693E5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A274-35AB-4F04-B549-887B771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88387-65BB-453B-B28B-698811F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DBBC-387B-40E8-A959-7E8493B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347-9731-49B6-8670-D87A39E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E5F07-16AB-43D4-A1BC-DC3CA9F7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A03A-15EE-416D-B2E6-E54918D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C429-B6AF-4C18-AEC4-CAA5BEE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4A08-795F-4B4B-A5BF-262EEFF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C151-5A08-4C7D-9CE2-858756E0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9DABE-12BB-4951-AF77-ED406D9F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FB6C-EF7E-4BB9-9884-492AC5C4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3B24-BA44-4121-B999-67B94A74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7914A-AEA7-4D74-A5E4-5DD19D0A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707D0-6C8C-433C-A530-49C845D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05AC-3FD9-480F-9D68-DBF42F2A974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4E5-8B89-407C-98C4-0F44AED49B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D50-9C40-4CCF-BE4C-B8338B0134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C287-2DE8-49B4-AD6E-997B88F5E0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E9E-6435-4A7E-8A51-3A56435ECB8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F0E-52E7-4765-92E5-7CA507DCDA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3A7-4487-496E-B68E-C1B8B54C05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C190-8616-4445-915A-36C2EDC01A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AB9-179D-4ECB-9C99-789C43175E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22F-8629-4BF5-9AFF-3536576C3F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CE3-25D8-456C-9A11-39E0D2A1EE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DE1-0A4B-4B00-8649-98A0A4FF0A6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1 Meno Ježiš požehnan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Ježiš požehna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ácnejšieho mena ni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je všade zvestova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spásu prijal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mene Pán Boh žeh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y dáva v 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láska k nám je ver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núka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u vzdávaj menu Ježi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ec nám v ňom všetko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uj sa, kto v neho verí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slúž, on j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om mu vzdávaj čes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6T18:42:56Z</dcterms:modified>
  <cp:revision>21</cp:revision>
  <dc:subject/>
  <dc:title>Je veľký náš Pán, on slávy je Kráľ Nech do všetkých strán  spev vrúcnych znie chvál.</dc:title>
</cp:coreProperties>
</file>